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234D-85A7-4210-82DF-EA554B243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838A-B49E-4FA6-B2E5-02278E0D28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3A9-7428-48AC-A702-7A56C54F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4D01-081E-4E0C-A677-E344C783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D00-866E-4335-BA53-4AD069B7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5282-BF71-49D5-8150-331AD955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15E2-F645-44D4-BA49-C6816F5C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104B-78BE-420B-B1E3-46F9DFD5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8ECA-66F7-4600-87B6-100D6182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9C04-E758-4602-AAE4-32DC27E3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23B6-6193-40BB-A3D7-CCFCA5D3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6A56-6F24-4215-B34D-A0A9FE72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4988-36F1-4170-9CE6-67EFC2CE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3D7A-3672-4E50-B026-42460ABA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F78A-A99E-4DB7-BEF2-60BEE7F1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A368-2C68-46E9-9F22-3910669D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B442-EDBF-4152-9ED5-84355BF0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6883-02DB-4B99-9471-FABBF353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C920-3566-496B-A75B-2B4A7232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11B-CD89-4546-A931-507AF740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FB1C-8C1F-465B-AA29-2094CCD1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BE1-FCAD-4342-82AF-77CD7A83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AD7-DD06-480F-B6E5-891D537D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D4B-72FD-4E41-85FE-55778ABE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2F7-9F92-4A26-B426-89A2D30C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7A78-A298-44FE-B311-3C49798C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37EF-BDE9-4289-8954-8B8083752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57EB-C2D2-4899-8269-9DB015356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Las Comid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Allison Zhe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desasyu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gusta comer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uevos con salsa de to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 gusta comer bag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 gusta comer ce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 gusta beber le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 gusta beber jugo de nara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huevos"/>
          <p:cNvPicPr/>
          <p:nvPr/>
        </p:nvPicPr>
        <p:blipFill>
          <a:blip r:embed="rId1"/>
          <a:stretch/>
        </p:blipFill>
        <p:spPr>
          <a:xfrm>
            <a:off x="4800600" y="1752480"/>
            <a:ext cx="2438280" cy="1643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bagels"/>
          <p:cNvPicPr/>
          <p:nvPr/>
        </p:nvPicPr>
        <p:blipFill>
          <a:blip r:embed="rId2"/>
          <a:stretch/>
        </p:blipFill>
        <p:spPr>
          <a:xfrm>
            <a:off x="5257800" y="9907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ketchup"/>
          <p:cNvPicPr/>
          <p:nvPr/>
        </p:nvPicPr>
        <p:blipFill>
          <a:blip r:embed="rId3"/>
          <a:stretch/>
        </p:blipFill>
        <p:spPr>
          <a:xfrm>
            <a:off x="7238880" y="2209680"/>
            <a:ext cx="1905120" cy="1160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leche"/>
          <p:cNvPicPr/>
          <p:nvPr/>
        </p:nvPicPr>
        <p:blipFill>
          <a:blip r:embed="rId4"/>
          <a:stretch/>
        </p:blipFill>
        <p:spPr>
          <a:xfrm>
            <a:off x="5638680" y="3886200"/>
            <a:ext cx="2373480" cy="2514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Oranges_and_juice"/>
          <p:cNvPicPr/>
          <p:nvPr/>
        </p:nvPicPr>
        <p:blipFill>
          <a:blip r:embed="rId5"/>
          <a:stretch/>
        </p:blipFill>
        <p:spPr>
          <a:xfrm>
            <a:off x="5257800" y="3581280"/>
            <a:ext cx="2857680" cy="3076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5"/>
          <p:cNvSpPr/>
          <p:nvPr/>
        </p:nvSpPr>
        <p:spPr>
          <a:xfrm>
            <a:off x="4800600" y="35812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evos y salsa de tom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59436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5334120" y="6491160"/>
            <a:ext cx="2819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6095880" y="6400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5143680" y="65088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go de nara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5" descr="frosted-flakes"/>
          <p:cNvPicPr/>
          <p:nvPr/>
        </p:nvPicPr>
        <p:blipFill>
          <a:blip r:embed="rId6"/>
          <a:stretch/>
        </p:blipFill>
        <p:spPr>
          <a:xfrm>
            <a:off x="5638680" y="609480"/>
            <a:ext cx="2105280" cy="30099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6"/>
          <p:cNvSpPr/>
          <p:nvPr/>
        </p:nvSpPr>
        <p:spPr>
          <a:xfrm>
            <a:off x="5334120" y="34290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almuerz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gusta comer f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gusta beber so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gusta comer papas fr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gusta comer pa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gusta comer cookies para el post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8" descr="fresh_noodles"/>
          <p:cNvPicPr/>
          <p:nvPr/>
        </p:nvPicPr>
        <p:blipFill>
          <a:blip r:embed="rId1"/>
          <a:stretch/>
        </p:blipFill>
        <p:spPr>
          <a:xfrm>
            <a:off x="4952880" y="1062000"/>
            <a:ext cx="34290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6019920" y="3581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de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0" descr="sierramistnatural"/>
          <p:cNvPicPr/>
          <p:nvPr/>
        </p:nvPicPr>
        <p:blipFill>
          <a:blip r:embed="rId2"/>
          <a:stretch/>
        </p:blipFill>
        <p:spPr>
          <a:xfrm>
            <a:off x="5715000" y="4191120"/>
            <a:ext cx="1752480" cy="24289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"/>
          <p:cNvSpPr/>
          <p:nvPr/>
        </p:nvSpPr>
        <p:spPr>
          <a:xfrm>
            <a:off x="5715000" y="6477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5181480" y="1295280"/>
            <a:ext cx="3405240" cy="22482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5664240" y="35812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ok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1" descr="papas fritas"/>
          <p:cNvPicPr/>
          <p:nvPr/>
        </p:nvPicPr>
        <p:blipFill>
          <a:blip r:embed="rId4"/>
          <a:stretch/>
        </p:blipFill>
        <p:spPr>
          <a:xfrm>
            <a:off x="4876920" y="1143000"/>
            <a:ext cx="3733560" cy="24890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2"/>
          <p:cNvSpPr/>
          <p:nvPr/>
        </p:nvSpPr>
        <p:spPr>
          <a:xfrm>
            <a:off x="4876920" y="3581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pas fri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3" descr="pasta"/>
          <p:cNvPicPr/>
          <p:nvPr/>
        </p:nvPicPr>
        <p:blipFill>
          <a:blip r:embed="rId5"/>
          <a:stretch/>
        </p:blipFill>
        <p:spPr>
          <a:xfrm>
            <a:off x="4524480" y="1143000"/>
            <a:ext cx="4057560" cy="26956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4"/>
          <p:cNvSpPr/>
          <p:nvPr/>
        </p:nvSpPr>
        <p:spPr>
          <a:xfrm>
            <a:off x="61722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0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ce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gusta comer bola de masa herv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gusta comer piz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gusta comer cebollín panque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gusta comer sorbete de naranja para el post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gusta beber aq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Content Placeholder 5" descr=""/>
          <p:cNvPicPr/>
          <p:nvPr/>
        </p:nvPicPr>
        <p:blipFill>
          <a:blip r:embed="rId1"/>
          <a:stretch/>
        </p:blipFill>
        <p:spPr>
          <a:xfrm>
            <a:off x="5486400" y="919080"/>
            <a:ext cx="2743200" cy="2833920"/>
          </a:xfrm>
          <a:prstGeom prst="rect">
            <a:avLst/>
          </a:prstGeom>
          <a:ln w="0">
            <a:noFill/>
          </a:ln>
        </p:spPr>
      </p:pic>
      <p:pic>
        <p:nvPicPr>
          <p:cNvPr id="136" name="Content Placeholder 8" descr=""/>
          <p:cNvPicPr/>
          <p:nvPr/>
        </p:nvPicPr>
        <p:blipFill>
          <a:blip r:embed="rId2"/>
          <a:stretch/>
        </p:blipFill>
        <p:spPr>
          <a:xfrm>
            <a:off x="5332320" y="4076640"/>
            <a:ext cx="3098880" cy="201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real%20pizza"/>
          <p:cNvPicPr/>
          <p:nvPr/>
        </p:nvPicPr>
        <p:blipFill>
          <a:blip r:embed="rId3"/>
          <a:stretch/>
        </p:blipFill>
        <p:spPr>
          <a:xfrm>
            <a:off x="5086440" y="1219320"/>
            <a:ext cx="3143160" cy="23000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5486400" y="3733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a de masa herv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6477120" y="3519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z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4"/>
          <a:stretch/>
        </p:blipFill>
        <p:spPr>
          <a:xfrm>
            <a:off x="4681440" y="826920"/>
            <a:ext cx="3591000" cy="26924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1"/>
          <p:cNvSpPr/>
          <p:nvPr/>
        </p:nvSpPr>
        <p:spPr>
          <a:xfrm>
            <a:off x="4952880" y="3583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bollín panque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2" descr=""/>
          <p:cNvPicPr/>
          <p:nvPr/>
        </p:nvPicPr>
        <p:blipFill>
          <a:blip r:embed="rId5"/>
          <a:stretch/>
        </p:blipFill>
        <p:spPr>
          <a:xfrm>
            <a:off x="5091120" y="638280"/>
            <a:ext cx="2224080" cy="29653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4"/>
          <p:cNvSpPr/>
          <p:nvPr/>
        </p:nvSpPr>
        <p:spPr>
          <a:xfrm>
            <a:off x="6248520" y="6248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q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5091120" y="3603600"/>
            <a:ext cx="26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rbete de nara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6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9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4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8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49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8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8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Buen provech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 all images were taken from various different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08:17Z</dcterms:created>
  <dc:creator>zhengall</dc:creator>
  <dc:description/>
  <dc:language>en-US</dc:language>
  <cp:lastModifiedBy>Allison Zheng</cp:lastModifiedBy>
  <dcterms:modified xsi:type="dcterms:W3CDTF">2011-04-15T00:03:56Z</dcterms:modified>
  <cp:revision>18</cp:revision>
  <dc:subject/>
  <dc:title>Las Comidas</dc:title>
</cp:coreProperties>
</file>